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417E-AAA7-4498-A942-54F42C21ADD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ские военачаль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гражданской во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4EF3-AC59-486C-A67E-FBF96CE057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Федорович Федьк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берт Янович Лап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40E2-1921-4875-9F18-109D06021B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Николаевич Тухачевск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ан Сергеевич Вострец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144F-2D78-4EDD-AA86-1F618E190FA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 Михайлович Буде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Иванович Чап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91B1-901A-449D-B68F-3E0A11E6F1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Васильевич Фрунз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ент Ефремович Вороши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E7F2-D88E-4407-BDA2-0EB8328E7A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Константинович Блюхер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ероним Петрович Убор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9F62-429A-4AED-8A42-E99B1C16412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горий Иванович Котовск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а Эммануилович Як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F626-7DAA-41F3-B625-8BC281496B8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льич Егор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 Фрицевич Фабриц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F165-2999-4545-ADD6-B326FAC93D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Александрович Щор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сиф Родионович Апанас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4C01-A9CC-489E-B5BD-23D02E8F684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 Иванович Городов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Яковлевич Пархом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2D6A-6C89-43C0-A6C7-B6EE1C33B1A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 Константинович  Тимошенк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 Дмитриевич Гай (Бжишкя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D85C-2AA0-4037-8018-E935FADB8F4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Сергеевич Камене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лий Маркович Прим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3FAD-476C-42B3-AC8B-0B35325379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мир Мартинович (Михайлович) Ази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пифан Иович Ковтю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90B2-C43A-4AE0-B4D4-B96483A5A32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0BE-4C65-4F8B-AF4F-ED8E8A67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CAA-84A2-4315-9640-47BD11C5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660-8C86-4933-A65A-C090CBF0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613-868F-42AE-A92D-30BDCBF8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9B48-B99C-4CA5-9873-7840EDC5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3AC4-B4A5-4C5B-ADA3-5A7F66AB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DCE5-C5D8-4A80-9CEB-8EE4F7B6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2553-28F7-46FC-9359-79378D8F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AA9E-B946-4E5B-8B94-79375B3B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1FD3-CA75-484A-AABE-5CA1166F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B7A7-D7A7-4FCE-9BF3-349C9ECE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A7A-8604-4025-9008-F6FD2244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881C-720D-4056-B620-8320883D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5A41-4D65-440A-972D-F728E846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633D-F049-4D46-8B27-72A215F1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1130-4690-4810-95E9-F585E728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DC26-563C-4A38-8A09-44590EE4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0CC-E95F-4672-918B-BB21A251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9AB-0DD1-4522-AB35-DADC8C48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E20-F503-4CCA-91DE-A137B6D3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6D3-A686-4146-994B-18A486E2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AB6-F75B-4055-80C8-E5619656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3CB-48AD-4DC4-8848-E4C2E9D5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A5E-8BB7-4195-BF5D-07007EF5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0EF9-8D41-4365-994D-A968FD2B5F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B67C-9AAF-4FCE-8961-C338E4D1CC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оветские военачальн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рои гражданск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ван Федорович Федько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ьберт Янович Лапин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705640" y="-10879200"/>
            <a:ext cx="360" cy="70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629400" cy="41479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-695160" y="-3841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Михаил Николаевич Тухачевски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тепан Сергеевич Вострец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734080" y="-10625040"/>
            <a:ext cx="3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62940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-666720" y="-3713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мен Михайлович Буденны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асилий Иванович Чапае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5705640" y="-10769760"/>
            <a:ext cx="360" cy="69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934320" cy="424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-695160" y="-3786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Михаил Васильевич Фрунзе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Климент Ефремович Ворошил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695920" y="-10806120"/>
            <a:ext cx="36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162920" cy="44960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-704880" y="-3805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асилий Константинович Блюхер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ероним Петрович Уборевич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753160" y="-10696680"/>
            <a:ext cx="360" cy="69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705720" cy="4343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-647640" y="-3749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Григорий Иванович Котовски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она Эммануилович Якир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657760" y="-10841040"/>
            <a:ext cx="360" cy="70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705360" cy="4343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-743040" y="-382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ександр Ильич Егоро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Ян Фрицевич Фабрициус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676840" y="-10915560"/>
            <a:ext cx="360" cy="70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705720" cy="4705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-723960" y="-38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Николай Александрович Щорс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осиф Родионович Апанасенко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734080" y="-10987200"/>
            <a:ext cx="360" cy="70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705360" cy="4659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-666720" y="-38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Ока Иванович Городовико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ександр Яковлевич Пархоменко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695920" y="-10987200"/>
            <a:ext cx="360" cy="70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-704880" y="-38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мен Константинович  Тимошенко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Гай Дмитриевич Гай (Бжишкян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734080" y="-10659960"/>
            <a:ext cx="360" cy="69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24852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-666720" y="-3730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ргей Сергеевич Камене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италий Маркович Примак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686560" y="-10879200"/>
            <a:ext cx="360" cy="70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096240" cy="38480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-714240" y="-3841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ладимир Мартинович (Михайлович) Азин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Епифан Иович Ковтюх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724360" y="-10806120"/>
            <a:ext cx="36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-676440" y="-3805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8:48:31Z</dcterms:created>
  <dc:creator>Наташа</dc:creator>
  <dc:description/>
  <dc:language>en-US</dc:language>
  <cp:lastModifiedBy>LEGION</cp:lastModifiedBy>
  <dcterms:modified xsi:type="dcterms:W3CDTF">2015-01-14T10:03:45Z</dcterms:modified>
  <cp:revision>3</cp:revision>
  <dc:subject/>
  <dc:title>Советские военачальники</dc:title>
</cp:coreProperties>
</file>